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DE9-28A4-4F06-AA8B-7EBD8B86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E37-D0ED-465A-A2C1-B4061F56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EF034-4914-4BCA-B646-440E0C93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4C043-E1B5-452D-AC9B-BC760E9C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0F923-F7B5-4F2E-A908-35B75C46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BCEB4-E2D1-4108-A671-31EA0A45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F8FEC-77A2-4232-B244-58C4B8AC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4F3E9-5FA3-4DC0-818B-2310AD12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2B4FC-F841-4A28-9604-485E1B7C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91CA5-1FB7-4C3E-8645-FBE875A1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9DF29-FCA9-4068-9AF2-B18FA1B0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3CDC5-A60C-43B3-B91E-5020F72E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B0C-FE2A-4F26-92CA-428E2FE2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8F671-627D-4AA8-AE08-E0FFDAB1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A60D0-5C51-4B88-B9A9-1D344C99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9DF08-A1FE-445C-84E1-B9A9F409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2289F-4C81-4E5B-B1A8-7F152C66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A08F1-4348-44CC-8756-18216364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C5FC2-B950-4983-8061-9A54F236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8914C-B563-4EF1-BB25-5AE60A31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E6352-33C9-425F-855D-834D69B8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E750F-AABE-47AC-9201-75A37D1B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6B2FE-4521-439D-9547-AE4E1D3B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673-7E5F-4DEE-9A5C-9B072E55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9BE7B-5132-4F75-A493-606527EF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1D361-EBF5-4BCA-B40C-882DFF84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40163-BD7B-4BEB-9E89-6CA9FC75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030CA-B3E0-4427-823D-915AABCC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521DA-F1B8-42C4-A394-5873C7FD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61150-D9E8-402D-B177-79A35061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6A0F7-9CEA-4584-8AD8-1B4F5FEE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C80B6-C1CE-4F46-A0AC-CCEB37FE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E9F16-A981-49C5-AE06-470F4EC3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70141-4371-43EF-A30F-D81D9117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2465-B216-47AA-9665-FD1A429C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3E556-7C1E-47E9-B095-E34509CA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D7C3C-2409-48AB-A9E6-AD30CDCB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50318-1B03-49DE-863F-F9972321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2FA7E-5D96-4911-BB2D-2695CEFB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BB364-BA68-4135-A1CE-011EF655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E6C92-7DCA-4DD6-961A-54525FF8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48280-A321-4FB1-865D-E5B95165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3679C-E382-4879-8B30-A30E80DE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5A98B-60F3-4615-A9F3-25347408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2D65D-D405-47C5-A2DC-F62596CE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F144-98FD-44DA-9FD7-5B993E96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9A121-8552-4CE8-AFD9-26049ECC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C9D8C-1B48-4E06-84AA-822A94D8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D4657-578D-4A01-AB78-D0901242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31159-800F-4696-ADE1-0C57ADB3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B2133-1702-45E7-99D9-46C74949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FE25-2CC8-4A43-8246-E77E9D3C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4A8C-FF01-4B59-8DAF-74900210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6051-9C30-47C9-B4AA-B47CAFB2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78FC-B222-494C-B8B6-A0CAE0AD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B3E1-B1D3-49B0-9EDB-22E46758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260-13B4-451D-B779-1FDEBB25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6D7B-EBFE-433A-A892-C4003B85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30EA-B486-4E11-8DE4-88976971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3269-FE6C-4DFD-A5E8-974D81FE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D196-2636-4776-B858-B8839475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2807-62EF-4A6A-91A8-FDA4634C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814F8-2011-4782-A644-9EEC94B3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5D9C-35F4-4A5F-B111-C48C4365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22346-1CE8-4E03-BD3F-8B6C7930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0BF5-81BE-4B3C-8B15-2E051A9D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B1E1D-5BAB-4559-B851-6DB0017A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746-2A74-4185-BF4F-88F746D6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0A91E-9918-4883-B4DD-9E883D00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882D8-3FC5-475E-8436-11C641F0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3C82F-BF4F-4D4B-8D05-9615529F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378E9-E683-46C7-AE14-11D50285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8C61C-3E9A-4F96-8AE4-E01888A8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9B01F-5775-4B93-B91C-3D6530AD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0DAAE-2489-490F-9F49-6931C0B4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A9EBB-6889-4247-8FE3-C8080249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252F8-3A44-427F-8896-ED163101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85989-A400-4205-AD5D-F593CFE4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ABD-8AB7-4A10-9AFC-928EE8AF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B463A-B8C5-46C5-80A2-86B10645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A6872-8FB8-4347-BEE7-13677B24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20854-29C6-45EE-9DE8-14DAAEBD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7A87F-E4B0-46B4-9C91-49C66A82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188DC-8B7C-43BE-9123-2E3C4A66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411DA-7ED7-4B97-BDDB-C8E4377C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11C4B-BBBF-4E4A-BB82-6BD65BDD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5D9BF-84CE-4EF8-AAFD-19248912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4F927-534E-4E60-8934-46C1B0D6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4CE08-DACA-498D-9DF6-AEFE3E40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E97C-709E-4A56-9C0A-02F747E4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38CED-C7F9-4E7D-91FD-AB689602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60CB8-3B8B-4593-8231-FCC7C5C2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68066-4F61-498A-9706-09F0BFF9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4D323-A548-46E6-AECF-0EDE3BD6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AD0F7-E54C-49A8-9E26-F6DA9034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A4534-99EE-412A-80E3-2AC3EDF2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7371F-9944-4F8A-A8E9-B3B90799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DC929-CCFA-4547-834A-7A78A7C8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8D251-0058-472A-83DF-52EF4020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C7F4E-88A9-4875-A875-FF09037F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360-0266-498E-A5BB-EAB664D5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2B5DE-D52D-4996-87D0-31AF0053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B8426-2823-48E9-94A8-F6D56870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EC3BF-DAC4-4CC2-8749-F1DFF1A2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E6586-8716-4D4D-9674-5CCA94D0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699C9-1F12-4F9F-A438-FEBF1222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1EE39-0F6B-4E65-B455-E917989E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6CB18-E495-448C-BD1C-6B17B31F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85D25-2822-4124-AE90-274BFFE4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25132-FDFF-4D45-A267-7B5463C9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08CA1-366C-4703-A3D5-83584CE8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BDB-7243-43EA-8C2E-C1733B59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126FE-2505-4D81-9D0F-D63426EC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FEE08-EF53-46B7-93BE-BF0ED6A5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01755-35ED-4967-B398-54D40199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F2306-17EB-4027-B4B8-26044D06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2A235-8340-4FC3-946E-2CC3547F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56150-DC2F-498D-9264-1AC7C6BC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5CAA3-E2A8-4A0B-92E3-3363BE20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6B992-00C6-439D-83B6-9C310389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A012B-3168-4200-B8C7-C275E849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8C558-D4C8-4917-A187-A0FFA3FA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5EB-9F76-4AEF-8F4C-5AD609E6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B7083-5806-4429-A1E5-902B383C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637F4-5031-49C3-A78F-5B75A5F3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34728-89EC-42CD-8741-1CF158B9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FB6F5-8322-436A-A680-676D25C3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FCD2C-022D-4BAE-B185-59E474E9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09723-5F29-4A85-928F-3E5AB41C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605C0-DB4B-4C9A-A11A-1AD820EE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7A7B6-E0A1-4073-A01E-19A61E3A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5DA83-3500-4C1B-969C-D904C504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33E89-D4F7-4A22-9177-A60C808A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2BB-DC58-4468-A294-0A6BD121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C4054-2714-4895-A2C3-A5A73CA2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A39E8-7968-41BE-9F61-C5C64676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A6A82-C53B-45DF-9ECD-FC1C7535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7B4A6-86AD-4D90-AC29-75A41A34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5FC46-11C0-4915-9C21-5CD43EF4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89D1D-4AA1-43E2-9948-EA79181E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B234B-6D2E-49AC-83E1-ACC689C1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D115F-E249-4FC2-AEEA-CF8EAD80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0F394-0317-4468-BD12-FC700B8E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46BA8-3115-4EB9-A41C-972F6E92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4C29-83EE-46AD-A38D-87E84D92F98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3A57-78DA-409C-BB15-8B5C02DE73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1365-CDBA-4045-921F-4997CE82FA9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6C58-7268-4196-907B-D5B48CD2E7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1C6E-A949-4D5B-8961-25AAAEFF4E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C486-3DEC-4C90-90D5-5CE6B33302C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2423-9E06-47A3-B09F-F91579A8D11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2A30-BB7F-4ED1-B7E2-6F02D258A9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0056-FEBF-40DD-B90F-0980155D976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66B8-16AF-42A2-A481-B089A94E9D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7EA3-47E5-48A6-B8B1-967AB4D7BE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8142-1F67-4C4C-8265-A232C24E42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6 Chválospev vďa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ospev vďaky radost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srdcia dvíha k nebe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anjelov chór slávnost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pĺňa svätý Boží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í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ovo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voril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všetko z lásky daroval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0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neho sme jak poľný kvet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ť večne s nami vždy si prial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kladom vlády jeho 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 i spravodlivý súd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sť a svätosť jeho sm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stovať svetu Boží ľ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ím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rónom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nešen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úctou sa všetci skláňa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Pán je vládca všemoc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jemu chválu vzdávajm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51:24Z</dcterms:modified>
  <cp:revision>30</cp:revision>
  <dc:subject/>
  <dc:title>Je veľký náš Pán, on slávy je Kráľ Nech do všetkých strán  spev vrúcnych znie chvál.</dc:title>
</cp:coreProperties>
</file>